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5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3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9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9E494-CE6B-4F97-A924-96D0C14D6F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OMBOCYTOPENIA:  Heparin/PF4 complex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undergo aggregation and are removed prematurely from the circ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OMBOSIS:  HIT antibodies of IgG bind to complexes of platelet factor 4 (PF4) and heparin on platelet surfaces, resulting in platelet activation/generation of microparticles which enhanced coagulation reactions and production of thrombin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etechiae are due to the presence of red cells which have extravasated from capillaries; they are nontender and do not blanch under pressure. They are asymptomatic and not palp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rpura is a purplish discoloration of the skin due to the presence of confluent petechi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is peripheral smear from a patient with bone marrow fibrosis shows numerous teardrop-shaped red cells (arrows). Note that the teardrops are pointed in several different directions, ruling out an artifact due to preparation of the smear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E6DFB-4938-49EB-B9EB-1457DA7AA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37BD7-72F4-4885-961A-26CBBCD68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CF87A-D031-41C6-815C-B2CFF90B5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0864E-0038-44C8-8F54-75BED9DDA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331A0-2848-44B9-83FB-F55DE14C3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CE8CA-455D-4766-8072-5038787CD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25A3A-DC48-4906-A0D8-AF8F6A750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D7A66-8B63-4D65-BC59-7B0C7D9C9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6C3AF-8435-4BD1-8F10-15C8CB6A2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60B5B-E4C8-4208-8763-046317BF8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56561-84F5-432B-A562-7CE6EC534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27058-25A8-4B17-BBF3-CD8F67FDF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B7914-0E29-450E-8E65-7A0F899107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circ.ahajournals.org/content/vol110/issue18/images/large/32FF1.jpeg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interforti.com/STOCKPHOTOGRAPHY/scripts/imageFolio.cgi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facebook.com/photo.php?pid=31186154&amp;id=1427622005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hyperlink" Target="http://www.facebook.com/photo.php?op=1&amp;view=global&amp;subj=1617347670&amp;pid=1244251&amp;id=1198833912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rombocytopen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t Akin, M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eatment of IT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platelets &gt; 20,000 and no bleeding…generally obser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eroids, benefit approx 2/3 of patients…but takes 3 wee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VIG works more quickly (several days, and lasts several weeks)…used generally in actively bleeding patients while waiting for steroids to 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munosupressive agents/splenectom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dication induced Thrombocytopen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lls" descr=""/>
          <p:cNvPicPr/>
          <p:nvPr/>
        </p:nvPicPr>
        <p:blipFill>
          <a:blip r:embed="rId1"/>
          <a:stretch/>
        </p:blipFill>
        <p:spPr>
          <a:xfrm>
            <a:off x="1981080" y="1981080"/>
            <a:ext cx="4915080" cy="461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creased Destruct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DICATIONS!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chanism of med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rombocytopenia is accelerated plt destruction via drug dep antibo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n’t forget about OTC meds, remed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A, NSAI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inine (tonic wat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y, many meds can cause thrombocytopenia…and list constantly grow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dian recovery after d/c of med is 5-7 da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plts &lt;10,000 or bleeding…transfus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lass 1B re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dication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Main Offend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eparin**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Amiodar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Valproic acid/Carbamazepin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Amphotericin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old sal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Vancomyc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inine/quinidin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Cimetid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actrim/sulfonamid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Phenyto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enicillin/Beta lactam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Clopidogril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terfer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Digox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P 2b/3a inhibitors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abciximab)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luconazo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nezoli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Ranititid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T:  Heparin induced throbocytopen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so referred to as Heparin induced thrombocytopeni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nd thrombosi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“HITT”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wo typ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IT 1:  Minimal fall of platelets within 2 days of heparin, then returns to normal…non-immune, not clinically importa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IT II:  immune mediated fall of platelets generally occurring within 5-10 days after hepar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associated with minimal use of heparin (even with IV flushes…why we now use salin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32FF1" descr=" 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14600" y="685800"/>
            <a:ext cx="447984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idence:  0.2-5% of patients exposed to Hepar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ctors predisposing one to HI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nger duration of Hepar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of UFH (rather than LMWH/loveno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rgical patient &gt; medical pati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emale &gt; ma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to suspe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tient on heparin, started &gt;5 days prior (or less if re-exposed to hepari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0% fall or more from a prior value (even if still within normal rang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ociated thrombosis (venous or arteria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ociated skin necrosis at site of heparin inj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K, you suspect it…now calculate a pretest probability:  The 4 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rombocytope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50% fall and nadir &gt;20K:  2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0-50% fall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nadir 10-19K:  1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 30%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nadir &lt; 10K:  0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ear onset between day 5-10 post heparin (or w/in 1 day if heparin previously w/in 30days): 2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istent with” between 5-10 days, but missing data:  1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latelet fall &lt; 4 days post heparin:  0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next two 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rombosis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W Thrombosis/necrosis/systemic reaction (after IV bolus):  2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gressive/recurrent thrombosis, suspected thrombosis, or non-necrotizing skin lesions:  1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ne of above:  0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causes for Thrombocytopeni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ne: 2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sible: 1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finite: 0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rombocytopenia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ott Akin, M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400helishark" descr="Great White Shark, Farallon Island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71600" y="1984320"/>
            <a:ext cx="6477120" cy="487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0-3 points= low probability (0.9% pre-test probability)  Evaluate for other causes, don’t order HIT antibod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4-5 points= intermediate (11% pre-test prob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op heparin, order HIT antibod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6-8 points= high probability (34% pre-test prob) stop heparin, order HIT antibod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T Treat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p hepar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p warfarin pending rebound of platelet count (give vitamin K if warfarin already started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ider checking for lower extremity DV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N’T transfuse for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even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bleeding (may precipitate thrombosis)…but consider in patients who “are bleeding or are deemed to be at high risk of bleeding.” (2008 ACCP guideline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nonheparin anticoagulant if HIT antibodies positive (take 2-3 day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T Treat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06520" indent="-50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nonheparin anticoagula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8680" indent="-43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pirudin, argatroban, danaparoid, fondaparinux, bivalirud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68680" indent="-43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abnormal renal fxn: Argatroban (or lepirudin at reduced dos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68680" indent="-43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abnormal hepatic function: lepirudin, danaparoid, fondaparinu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68680" indent="-43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both:  Argatroban, or reduced dose bivalirud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06520" indent="-50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ticoagulation (with warfarin) for 2-3 months if no thrombotic event, 3-6 months if thrombotic event (grade 2C eviden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8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 More Causes of thrombocytopen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53880" y="-479520"/>
            <a:ext cx="9144000" cy="360"/>
          </a:xfrm>
          <a:prstGeom prst="rect">
            <a:avLst/>
          </a:prstGeom>
          <a:solidFill>
            <a:srgbClr val="879a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9495768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53880" y="-479520"/>
            <a:ext cx="9144000" cy="360"/>
          </a:xfrm>
          <a:prstGeom prst="rect">
            <a:avLst/>
          </a:prstGeom>
          <a:solidFill>
            <a:srgbClr val="879a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9495768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53880" y="-479520"/>
            <a:ext cx="6429600" cy="360"/>
          </a:xfrm>
          <a:prstGeom prst="rect">
            <a:avLst/>
          </a:prstGeom>
          <a:solidFill>
            <a:srgbClr val="879a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9495768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25510_1454329124705_1427622005_31186153_1621402_n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71600" y="1905120"/>
            <a:ext cx="6324480" cy="47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 More Causes of thrombocytopen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lut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ssive blood loss with transfusion (few platelets in PRBC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tribut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lly 1/3 of platelets are sequestered in sple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portal HTN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gestive splenomegaly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d sequestration (up to 90%) in spleen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w plt count in peripheral blood (but available platelet mass normal, therefore rarely bleed).  Note that platelet count usually in 50-100K ran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VERY common cause of “thrombocytopenia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latelet_clumping_in_EDTA" descr="Image"/>
          <p:cNvPicPr/>
          <p:nvPr/>
        </p:nvPicPr>
        <p:blipFill>
          <a:blip r:embed="rId1"/>
          <a:stretch/>
        </p:blipFill>
        <p:spPr>
          <a:xfrm>
            <a:off x="2057400" y="2438280"/>
            <a:ext cx="4915080" cy="32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ork u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rst rule out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pseudothrombocytopeni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EDTA agglutinin autoantibody mediated Platelet clumping seen in 0.1%-0.2% of all blood draw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Examine the sm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Repeat with heparinized/citrated tu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Repeat with fingerstick directly applied to sl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Note: pseudothrombocytopenia often accompanied by falsely high WBC (machine counts plt clumps as WBC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ork u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st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ds, meds me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coh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utr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V risk fa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” symptom assessment (? Occult malignanc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leeding history (gums, menses, surgical complications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amily His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ine spl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ailed skin exam, looking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techiae: Red pinh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rpura: Purple confluent petecha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cchymos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ok for lymphadenopath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morph050" descr=""/>
          <p:cNvPicPr/>
          <p:nvPr/>
        </p:nvPicPr>
        <p:blipFill>
          <a:blip r:embed="rId1"/>
          <a:stretch/>
        </p:blipFill>
        <p:spPr>
          <a:xfrm>
            <a:off x="1674720" y="1496880"/>
            <a:ext cx="5794560" cy="386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85m" descr=""/>
          <p:cNvPicPr/>
          <p:nvPr/>
        </p:nvPicPr>
        <p:blipFill>
          <a:blip r:embed="rId1"/>
          <a:stretch/>
        </p:blipFill>
        <p:spPr>
          <a:xfrm>
            <a:off x="2378160" y="1782720"/>
            <a:ext cx="4389480" cy="32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e thrombocytopen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view caus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reased destru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reased produ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utline work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eat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transfuse or no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ork up (Continued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ipheral sme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rge platelets (hign MPV on CBC) imply increased destruction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rly release from marrow (IT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l/small platelets suggest reduced BM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istocytes (fragmented RBCs):  MAH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reveal bla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eardrop RBC, nucleated RBCs can suggest marrow invasion (tumor/fibrosis/granulom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crocytosis with hypersegmented polys can suggest Vitamin B/folate defici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agnosi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Schistocytes" descr="Image"/>
          <p:cNvPicPr/>
          <p:nvPr/>
        </p:nvPicPr>
        <p:blipFill>
          <a:blip r:embed="rId1"/>
          <a:stretch/>
        </p:blipFill>
        <p:spPr>
          <a:xfrm>
            <a:off x="2457360" y="2006640"/>
            <a:ext cx="4229280" cy="284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2828880" y="2398680"/>
            <a:ext cx="2901960" cy="1839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58400" rIns="158400" tIns="158400" bIns="8856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Tear_drop_cells" descr="Image"/>
          <p:cNvPicPr/>
          <p:nvPr/>
        </p:nvPicPr>
        <p:blipFill>
          <a:blip r:embed="rId2"/>
          <a:stretch/>
        </p:blipFill>
        <p:spPr>
          <a:xfrm>
            <a:off x="2828880" y="1782720"/>
            <a:ext cx="3486240" cy="32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ork up (Continued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T/PTT (high in MAHA/DIC…liver disea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H (hemolysis/MAH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n/Creatinine (HUS/TT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ider HIV, ANA if clinical suspi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ider toxo, EBV, CMV serologies if lymphadenopathy, splenomegaly, or “B” sympto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ider HIV(initial disease manifestation in 10%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ider ANA if clinical suspi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ork up (continued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ne marrow biops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re definitively answers the “production vs. destruction” ques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lly indicated i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nexplain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romocytopenia if platelet count low enough (5-10K) to be at risk for major bleeding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UNLESS age &lt; 60, thrombocytopenia is isolated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and history/PE, and smear suggest the diagnosis (of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exclusion) of IT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If age &gt; 60, and suspect likely ITP, BM biopsy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generally indicated to r/o myleodysplas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platelet level is “safe” ?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ts &gt; 50K:  surgery safe (except neurosur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ts 30-50K: risk of major bleeding low.  Rarely have purpur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ts 10-30K: risk of mild-moderate bleeding (especially with more extensive trauma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ts &lt;10K: high risk for spontaneous hemorrhage (esp if &lt;5K).  These patients have spontaneous bruising, and maybe petechiae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oid IM injections, rectal exams, ene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52a9a759ab" descr=""/>
          <p:cNvPicPr/>
          <p:nvPr/>
        </p:nvPicPr>
        <p:blipFill>
          <a:blip r:embed="rId1"/>
          <a:stretch/>
        </p:blipFill>
        <p:spPr>
          <a:xfrm>
            <a:off x="2057400" y="457200"/>
            <a:ext cx="449568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NOT to transfuse platelet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fusions may induce immune resist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rally transfusions not given in conditions of platelet destru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US/TT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L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less  sev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NS bleed 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rgent invas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e IT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cedure requi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TO transfuse platele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platelets &lt; 10,000 (risk of spont. Bleed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&lt;20,000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ctive blee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&lt;40-50,000 prior to an invasive procedu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rger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Childbir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 lin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Tooth extr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oracente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&lt;100,000 prior to neurosurgery/epidural anesthes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 “unit” of platelets (“phoresed unit”) raises platelet count by about 2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nk about thrombocytopenia in terms of etiology (destruction, decreased production, and “other”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story (especially MEDS) essent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ways rule out psuedo-thrombocytopen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ipheral smear tells you a lo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nk before you transf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rombocytopein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ition:  platelets &lt; 150,000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rmal platelets 150,000 - 450,000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our lab 130-40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5% of the normal population will have platelet count lower than “normal” which is NOT abnorm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telets can fall by half, and still be in normal range…which is NOT NORM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telets live for 8-10 day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nger platelets are larger and work bet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end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24117_1433573838210_1198833912_1244250_3325866_n" descr="">
            <a:hlinkClick r:id="rId1"/>
          </p:cNvPr>
          <p:cNvPicPr/>
          <p:nvPr/>
        </p:nvPicPr>
        <p:blipFill>
          <a:blip r:embed="rId2"/>
          <a:srcRect l="-2772" t="-2776" r="0" b="0"/>
          <a:stretch/>
        </p:blipFill>
        <p:spPr>
          <a:xfrm>
            <a:off x="1066680" y="1676520"/>
            <a:ext cx="7162920" cy="49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uses of Thrombocytopenia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ecreased Produc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rrow suppression (usually pancytopenic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t viral: parvo, Hep B/C, EBV, varicella, measles, mumps, rubella, MMR vaccine, CMV, toxo, mono, influenz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p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lastic anem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rect megakaryocyte damage:  HI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rect toxicity to bone marrow:  XRT, chemo, alcoh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row infiltration: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ymphoma, Myelofibrosis, mets, T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ds with toxic effect: (non immune media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azides, estrogens, septra, chemo, cimetidine, famotid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creased Production (Continued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lignancies:  Myelodysplasia syndrome (age &gt;60…usually anemic/leukopenic), leukemia, myelo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12 or Folate deficiency (rar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genital (Wiskott-Aldrich, Fanconi syndrome, Bernard-Soulie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N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uses:  Increased Destr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352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mune media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P*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ug induced*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heum:  SLE, RA, APLA syndr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V (40% of p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t transfu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t transpla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8320" y="1980720"/>
            <a:ext cx="31240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n-immu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TP/HUS (suspect when low platelets and MAHA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-eclamps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LL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xic sho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sculit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’s thi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hem110" descr=""/>
          <p:cNvPicPr/>
          <p:nvPr/>
        </p:nvPicPr>
        <p:blipFill>
          <a:blip r:embed="rId1"/>
          <a:stretch/>
        </p:blipFill>
        <p:spPr>
          <a:xfrm>
            <a:off x="2571840" y="2039760"/>
            <a:ext cx="4000320" cy="277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creased Destruction:  ITP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diopathic throbocytopenic purpura)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agnosis of exclusion with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olated throbocytopenia      -history of no possi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r sme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fending me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l spleen si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gold standard for diagno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ider HIV test if risk fac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ider bone marrow biopsy if age &gt;60 to rule out M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ti-platelet antibody panel not generally recommended (low sensitivity and specificit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ealth Services Department</cp:lastModifiedBy>
  <dcterms:modified xsi:type="dcterms:W3CDTF">2010-05-12T18:50:22Z</dcterms:modified>
  <cp:revision>17</cp:revision>
  <dc:subject/>
  <dc:title>PowerPoint Presentation</dc:title>
</cp:coreProperties>
</file>